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fastsnaps.wav" ContentType="audio/x-wav"/>
  <Override PartName="/ppt/media/boinng04.wav" ContentType="audio/x-wav"/>
  <Override PartName="/ppt/media/partyhorn.wav" ContentType="audio/x-wav"/>
  <Override PartName="/ppt/media/driveby.wav" ContentType="audio/x-wav"/>
  <Override PartName="/ppt/media/planeflyby.wav" ContentType="audio/x-wav"/>
  <Override PartName="/ppt/media/zipup202.wav" ContentType="audio/x-wav"/>
  <Override PartName="/ppt/media/gunshot.wav" ContentType="audio/x-wav"/>
  <Override PartName="/ppt/media/kid%20yeah.wav" ContentType="audio/x-wav"/>
  <Override PartName="/ppt/media/lzipup01.wav" ContentType="audio/x-wav"/>
  <Override PartName="/ppt/media/oldcarhorn.wav" ContentType="audio/x-wav"/>
  <Override PartName="/ppt/media/caralarmoff.wav" ContentType="audio/x-wav"/>
  <Override PartName="/ppt/media/children%20big%20yeah.wav" ContentType="audio/x-wav"/>
  <Override PartName="/ppt/media/doorbl07.wav" ContentType="audio/x-wav"/>
  <Override PartName="/ppt/media/zapvib04.wav" ContentType="audio/x-wav"/>
  <Override PartName="/ppt/media/zipdn102.wav" ContentType="audio/x-wav"/>
  <Override PartName="/ppt/media/camera.wav" ContentType="audio/x-wav"/>
  <Override PartName="/ppt/media/highchime.wav" ContentType="audio/x-wav"/>
  <Override PartName="/ppt/media/glass.wav" ContentType="audio/x-wav"/>
  <Override PartName="/ppt/media/hzipup01.wav" ContentType="audio/x-wav"/>
  <Override PartName="/ppt/media/projctor.wav" ContentType="audio/x-wav"/>
  <Override PartName="/ppt/media/byipee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D41-A4A2-4765-9CBF-F15C1041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4B0-BA0E-43DA-9F7C-B9944454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7BA-5BFC-4C11-A978-B81045B4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2D4-B941-452C-91C5-9CD91014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FFD-2813-4D13-8BFD-67B4E6E4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632-DA5C-49DE-85B0-FA1C7268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9FA-2B78-405D-927C-5D622ED0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3B3-2705-4EE7-B657-DE27613E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67F-2030-4CBE-8CF0-D7366D4E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746-9119-4C93-BD05-77C54F99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8F9-FD0D-4470-918F-C4C1E712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265-0BD4-43D7-BC59-0F4E74F4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04B-61CC-4276-9F02-D948641D1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highchime.wav"/><Relationship Id="rId4" Type="http://schemas.openxmlformats.org/officeDocument/2006/relationships/audio" Target="../media/zipdn102.wav"/><Relationship Id="rId5" Type="http://schemas.openxmlformats.org/officeDocument/2006/relationships/audio" Target="../media/glass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boinng04.wav"/><Relationship Id="rId9" Type="http://schemas.openxmlformats.org/officeDocument/2006/relationships/audio" Target="../media/boinng04.wav"/><Relationship Id="rId10" Type="http://schemas.openxmlformats.org/officeDocument/2006/relationships/audio" Target="../media/byipee04.wav"/><Relationship Id="rId11" Type="http://schemas.openxmlformats.org/officeDocument/2006/relationships/audio" Target="../media/byipee04.wav"/><Relationship Id="rId12" Type="http://schemas.openxmlformats.org/officeDocument/2006/relationships/audio" Target="../media/highchime.wav"/><Relationship Id="rId13" Type="http://schemas.openxmlformats.org/officeDocument/2006/relationships/audio" Target="../media/zapvib04.wav"/><Relationship Id="rId14" Type="http://schemas.openxmlformats.org/officeDocument/2006/relationships/audio" Target="../media/zapvib04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planeflyby.wav"/><Relationship Id="rId29" Type="http://schemas.openxmlformats.org/officeDocument/2006/relationships/audio" Target="../media/boinng04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zipup202.wav"/><Relationship Id="rId4" Type="http://schemas.openxmlformats.org/officeDocument/2006/relationships/audio" Target="../media/zipdn102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doorbl07.wav"/><Relationship Id="rId9" Type="http://schemas.openxmlformats.org/officeDocument/2006/relationships/audio" Target="../media/boinng04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lzipup01.wav"/><Relationship Id="rId14" Type="http://schemas.openxmlformats.org/officeDocument/2006/relationships/audio" Target="../media/lzipup01.wav"/><Relationship Id="rId15" Type="http://schemas.openxmlformats.org/officeDocument/2006/relationships/audio" Target="../media/kid%20yeah.wav"/><Relationship Id="rId16" Type="http://schemas.openxmlformats.org/officeDocument/2006/relationships/audio" Target="../media/zipdn102.wav"/><Relationship Id="rId17" Type="http://schemas.openxmlformats.org/officeDocument/2006/relationships/audio" Target="../media/hzipup01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doorbl07.wav"/><Relationship Id="rId6" Type="http://schemas.openxmlformats.org/officeDocument/2006/relationships/audio" Target="../media/doorbl07.wav"/><Relationship Id="rId7" Type="http://schemas.openxmlformats.org/officeDocument/2006/relationships/audio" Target="../media/hzipup01.wav"/><Relationship Id="rId8" Type="http://schemas.openxmlformats.org/officeDocument/2006/relationships/audio" Target="../media/caralarmoff.wav"/><Relationship Id="rId9" Type="http://schemas.openxmlformats.org/officeDocument/2006/relationships/audio" Target="../media/hzipup01.wav"/><Relationship Id="rId10" Type="http://schemas.openxmlformats.org/officeDocument/2006/relationships/audio" Target="../media/caralarmoff.wav"/><Relationship Id="rId11" Type="http://schemas.openxmlformats.org/officeDocument/2006/relationships/audio" Target="../media/boinng04.wav"/><Relationship Id="rId12" Type="http://schemas.openxmlformats.org/officeDocument/2006/relationships/audio" Target="../media/boinng04.wav"/><Relationship Id="rId13" Type="http://schemas.openxmlformats.org/officeDocument/2006/relationships/audio" Target="../media/byipee04.wav"/><Relationship Id="rId14" Type="http://schemas.openxmlformats.org/officeDocument/2006/relationships/audio" Target="../media/byipee04.wav"/><Relationship Id="rId15" Type="http://schemas.openxmlformats.org/officeDocument/2006/relationships/audio" Target="../media/highchime.wav"/><Relationship Id="rId16" Type="http://schemas.openxmlformats.org/officeDocument/2006/relationships/audio" Target="../media/zapvib04.wav"/><Relationship Id="rId17" Type="http://schemas.openxmlformats.org/officeDocument/2006/relationships/audio" Target="../media/zapvib04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planeflyby.wav"/><Relationship Id="rId28" Type="http://schemas.openxmlformats.org/officeDocument/2006/relationships/audio" Target="../media/boinng04.wav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yipee04.wav"/><Relationship Id="rId8" Type="http://schemas.openxmlformats.org/officeDocument/2006/relationships/audio" Target="../media/byipee04.wav"/><Relationship Id="rId9" Type="http://schemas.openxmlformats.org/officeDocument/2006/relationships/audio" Target="../media/highchime.wav"/><Relationship Id="rId10" Type="http://schemas.openxmlformats.org/officeDocument/2006/relationships/audio" Target="../media/zapvib04.wav"/><Relationship Id="rId11" Type="http://schemas.openxmlformats.org/officeDocument/2006/relationships/audio" Target="../media/zapvib04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planeflyby.wav"/><Relationship Id="rId20" Type="http://schemas.openxmlformats.org/officeDocument/2006/relationships/audio" Target="../media/boinng04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zapvib04.wav"/><Relationship Id="rId8" Type="http://schemas.openxmlformats.org/officeDocument/2006/relationships/audio" Target="../media/zipdn102.wav"/><Relationship Id="rId9" Type="http://schemas.openxmlformats.org/officeDocument/2006/relationships/audio" Target="../media/boinng04.wav"/><Relationship Id="rId10" Type="http://schemas.openxmlformats.org/officeDocument/2006/relationships/audio" Target="../media/boinng04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hildren%20big%20yeah.wav"/><Relationship Id="rId18" Type="http://schemas.openxmlformats.org/officeDocument/2006/relationships/audio" Target="../media/highchime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planeflyby.wav"/><Relationship Id="rId29" Type="http://schemas.openxmlformats.org/officeDocument/2006/relationships/audio" Target="../media/boinng04.wav"/><Relationship Id="rId30" Type="http://schemas.openxmlformats.org/officeDocument/2006/relationships/audio" Target="../media/byipee04.wav"/><Relationship Id="rId31" Type="http://schemas.openxmlformats.org/officeDocument/2006/relationships/audio" Target="../media/byipee04.wav"/><Relationship Id="rId32" Type="http://schemas.openxmlformats.org/officeDocument/2006/relationships/audio" Target="../media/byipee04.wav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oinng04.wav"/><Relationship Id="rId3" Type="http://schemas.openxmlformats.org/officeDocument/2006/relationships/audio" Target="../media/boinng04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boinng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zapvib04.wav"/><Relationship Id="rId8" Type="http://schemas.openxmlformats.org/officeDocument/2006/relationships/audio" Target="../media/zipdn102.wav"/><Relationship Id="rId9" Type="http://schemas.openxmlformats.org/officeDocument/2006/relationships/audio" Target="../media/boinng04.wav"/><Relationship Id="rId10" Type="http://schemas.openxmlformats.org/officeDocument/2006/relationships/audio" Target="../media/boinng04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hildren%20big%20yeah.wav"/><Relationship Id="rId18" Type="http://schemas.openxmlformats.org/officeDocument/2006/relationships/audio" Target="../media/highchime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planeflyby.wav"/><Relationship Id="rId27" Type="http://schemas.openxmlformats.org/officeDocument/2006/relationships/audio" Target="../media/oldcarhorn.wav"/><Relationship Id="rId28" Type="http://schemas.openxmlformats.org/officeDocument/2006/relationships/audio" Target="../media/byipee04.wav"/><Relationship Id="rId29" Type="http://schemas.openxmlformats.org/officeDocument/2006/relationships/audio" Target="../media/byipee04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oinng04.wav"/><Relationship Id="rId3" Type="http://schemas.openxmlformats.org/officeDocument/2006/relationships/audio" Target="../media/boinng04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boinng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fastsnaps.wav"/><Relationship Id="rId3" Type="http://schemas.openxmlformats.org/officeDocument/2006/relationships/audio" Target="../media/fastsnaps.wav"/><Relationship Id="rId4" Type="http://schemas.openxmlformats.org/officeDocument/2006/relationships/audio" Target="../media/driveby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zapvib04.wav"/><Relationship Id="rId8" Type="http://schemas.openxmlformats.org/officeDocument/2006/relationships/audio" Target="../media/zipdn102.wav"/><Relationship Id="rId9" Type="http://schemas.openxmlformats.org/officeDocument/2006/relationships/audio" Target="../media/boinng04.wav"/><Relationship Id="rId10" Type="http://schemas.openxmlformats.org/officeDocument/2006/relationships/audio" Target="../media/boinng04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hildren%20big%20yeah.wav"/><Relationship Id="rId18" Type="http://schemas.openxmlformats.org/officeDocument/2006/relationships/audio" Target="../media/highchime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planeflyby.wav"/><Relationship Id="rId29" Type="http://schemas.openxmlformats.org/officeDocument/2006/relationships/audio" Target="../media/boinng04.wav"/><Relationship Id="rId30" Type="http://schemas.openxmlformats.org/officeDocument/2006/relationships/audio" Target="../media/byipee04.wav"/><Relationship Id="rId31" Type="http://schemas.openxmlformats.org/officeDocument/2006/relationships/audio" Target="../media/byipee04.wav"/><Relationship Id="rId32" Type="http://schemas.openxmlformats.org/officeDocument/2006/relationships/audio" Target="../media/byipee04.wav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oinng04.wav"/><Relationship Id="rId3" Type="http://schemas.openxmlformats.org/officeDocument/2006/relationships/audio" Target="../media/boinng04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boinng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094360" y="3446640"/>
            <a:ext cx="2800440" cy="377640"/>
            <a:chOff x="5094360" y="3446640"/>
            <a:chExt cx="2800440" cy="377640"/>
          </a:xfrm>
        </p:grpSpPr>
        <p:sp>
          <p:nvSpPr>
            <p:cNvPr id="42" name=""/>
            <p:cNvSpPr/>
            <p:nvPr/>
          </p:nvSpPr>
          <p:spPr>
            <a:xfrm>
              <a:off x="7388280" y="3462480"/>
              <a:ext cx="506520" cy="36180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094360" y="3446640"/>
              <a:ext cx="506520" cy="36180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a Solution Using a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57360" y="3395520"/>
                <a:ext cx="305748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88800" y="1284120"/>
            <a:ext cx="8521920" cy="119124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olution, or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roots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an equation                   are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intercep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252900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algebraically. Check the solutions graph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033560" y="3730680"/>
                <a:ext cx="820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325680" y="3668760"/>
                <a:ext cx="820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919160" y="4433760"/>
                <a:ext cx="685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639880" y="4514760"/>
                <a:ext cx="1143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01680" y="5262480"/>
                <a:ext cx="960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44800" y="5111640"/>
                <a:ext cx="824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4859280" y="3188880"/>
            <a:ext cx="3754440" cy="3429000"/>
            <a:chOff x="4859280" y="3188880"/>
            <a:chExt cx="3754440" cy="3429000"/>
          </a:xfrm>
        </p:grpSpPr>
        <p:grpSp>
          <p:nvGrpSpPr>
            <p:cNvPr id="56" name=""/>
            <p:cNvGrpSpPr/>
            <p:nvPr/>
          </p:nvGrpSpPr>
          <p:grpSpPr>
            <a:xfrm>
              <a:off x="4952880" y="3263760"/>
              <a:ext cx="3428640" cy="3276360"/>
              <a:chOff x="4952880" y="3263760"/>
              <a:chExt cx="3428640" cy="3276360"/>
            </a:xfrm>
          </p:grpSpPr>
          <p:sp>
            <p:nvSpPr>
              <p:cNvPr id="57" name=""/>
              <p:cNvSpPr/>
              <p:nvPr/>
            </p:nvSpPr>
            <p:spPr>
              <a:xfrm>
                <a:off x="5714640" y="326376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76760" y="326376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238520" y="326376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000640" y="326376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952880" y="326376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952880" y="3263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52880" y="36277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52880" y="39916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52880" y="43556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52880" y="47199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52880" y="50839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52880" y="5447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52880" y="581220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52880" y="61761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V="1">
              <a:off x="6505560" y="318888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59280" y="361620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35080" y="5686560"/>
                <a:ext cx="24606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827440" y="5979960"/>
                <a:ext cx="1779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611760" y="56721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13600" y="56815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1320" y="57484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06960" y="5535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99320" y="55339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29480" y="51814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94440" y="51800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49840" y="4808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4807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1480" y="41990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4800" y="419724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68960" y="3532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2360" y="35686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4040" y="3191040"/>
            <a:ext cx="2489040" cy="2646360"/>
          </a:xfrm>
          <a:custGeom>
            <a:avLst/>
            <a:gdLst/>
            <a:ahLst/>
            <a:rect l="l" t="t" r="r" b="b"/>
            <a:pathLst>
              <a:path w="1568" h="1667">
                <a:moveTo>
                  <a:pt x="0" y="24"/>
                </a:moveTo>
                <a:cubicBezTo>
                  <a:pt x="21" y="90"/>
                  <a:pt x="42" y="157"/>
                  <a:pt x="73" y="269"/>
                </a:cubicBezTo>
                <a:cubicBezTo>
                  <a:pt x="104" y="381"/>
                  <a:pt x="145" y="565"/>
                  <a:pt x="184" y="698"/>
                </a:cubicBezTo>
                <a:cubicBezTo>
                  <a:pt x="223" y="831"/>
                  <a:pt x="265" y="964"/>
                  <a:pt x="306" y="1066"/>
                </a:cubicBezTo>
                <a:cubicBezTo>
                  <a:pt x="347" y="1168"/>
                  <a:pt x="390" y="1231"/>
                  <a:pt x="429" y="1311"/>
                </a:cubicBezTo>
                <a:cubicBezTo>
                  <a:pt x="468" y="1391"/>
                  <a:pt x="500" y="1493"/>
                  <a:pt x="539" y="1544"/>
                </a:cubicBezTo>
                <a:cubicBezTo>
                  <a:pt x="578" y="1595"/>
                  <a:pt x="618" y="1598"/>
                  <a:pt x="661" y="1618"/>
                </a:cubicBezTo>
                <a:cubicBezTo>
                  <a:pt x="704" y="1638"/>
                  <a:pt x="753" y="1667"/>
                  <a:pt x="796" y="1667"/>
                </a:cubicBezTo>
                <a:cubicBezTo>
                  <a:pt x="839" y="1667"/>
                  <a:pt x="880" y="1642"/>
                  <a:pt x="919" y="1618"/>
                </a:cubicBezTo>
                <a:cubicBezTo>
                  <a:pt x="958" y="1594"/>
                  <a:pt x="988" y="1573"/>
                  <a:pt x="1029" y="1520"/>
                </a:cubicBezTo>
                <a:cubicBezTo>
                  <a:pt x="1070" y="1467"/>
                  <a:pt x="1125" y="1375"/>
                  <a:pt x="1164" y="1299"/>
                </a:cubicBezTo>
                <a:cubicBezTo>
                  <a:pt x="1203" y="1223"/>
                  <a:pt x="1225" y="1168"/>
                  <a:pt x="1262" y="1066"/>
                </a:cubicBezTo>
                <a:cubicBezTo>
                  <a:pt x="1299" y="964"/>
                  <a:pt x="1344" y="819"/>
                  <a:pt x="1385" y="686"/>
                </a:cubicBezTo>
                <a:cubicBezTo>
                  <a:pt x="1426" y="553"/>
                  <a:pt x="1477" y="383"/>
                  <a:pt x="1507" y="269"/>
                </a:cubicBezTo>
                <a:cubicBezTo>
                  <a:pt x="1537" y="155"/>
                  <a:pt x="1558" y="45"/>
                  <a:pt x="156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266760" y="3106800"/>
            <a:ext cx="8172360" cy="776160"/>
            <a:chOff x="266760" y="3106800"/>
            <a:chExt cx="8172360" cy="776160"/>
          </a:xfrm>
        </p:grpSpPr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1181160" y="3106800"/>
                  <a:ext cx="725796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</m:e>
                      </m:d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8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</m:e>
                      </m:d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9760" y="3149640"/>
                  <a:ext cx="41112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266760" y="3184560"/>
                  <a:ext cx="100476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Quadratic Equations in Real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12970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. Algebraically check the solution in Example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0520" y="1749600"/>
            <a:ext cx="84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istration appears to be about 210 doll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170000" y="2325600"/>
                <a:ext cx="7213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8840" y="2455920"/>
                <a:ext cx="1004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788080" y="2432160"/>
                <a:ext cx="4096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076560" y="3174840"/>
                <a:ext cx="7304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63520" y="3956040"/>
                <a:ext cx="30574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232080" y="3949560"/>
                <a:ext cx="15066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670280" y="3948120"/>
                <a:ext cx="2008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81240" y="245268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12840" y="4645080"/>
                <a:ext cx="2738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936880" y="4626000"/>
                <a:ext cx="20080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325440" y="5440320"/>
                <a:ext cx="3057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3341520" y="5716440"/>
            <a:ext cx="11772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438360" y="5560560"/>
            <a:ext cx="23364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703760" y="2103480"/>
            <a:ext cx="3596760" cy="337680"/>
            <a:chOff x="4703760" y="2103480"/>
            <a:chExt cx="3596760" cy="337680"/>
          </a:xfrm>
        </p:grpSpPr>
        <p:sp>
          <p:nvSpPr>
            <p:cNvPr id="90" name=""/>
            <p:cNvSpPr/>
            <p:nvPr/>
          </p:nvSpPr>
          <p:spPr>
            <a:xfrm>
              <a:off x="7650000" y="2117520"/>
              <a:ext cx="650520" cy="32364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03760" y="2103480"/>
              <a:ext cx="650520" cy="32364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a Solution Using a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34800" y="2162160"/>
                <a:ext cx="3741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algebraically. Check the solutions graph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368440" y="3840120"/>
                <a:ext cx="409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365200" y="4317840"/>
                <a:ext cx="68580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013200" y="4398840"/>
                <a:ext cx="1096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11360" y="5086440"/>
                <a:ext cx="960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32160" y="4957920"/>
                <a:ext cx="8701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1" name=""/>
          <p:cNvGrpSpPr/>
          <p:nvPr/>
        </p:nvGrpSpPr>
        <p:grpSpPr>
          <a:xfrm>
            <a:off x="4859280" y="1828440"/>
            <a:ext cx="3754440" cy="3429000"/>
            <a:chOff x="4859280" y="1828440"/>
            <a:chExt cx="3754440" cy="3429000"/>
          </a:xfrm>
        </p:grpSpPr>
        <p:grpSp>
          <p:nvGrpSpPr>
            <p:cNvPr id="102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103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V="1">
              <a:off x="650556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9280" y="22557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51000" y="5816520"/>
                <a:ext cx="2790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94000" y="5921280"/>
                <a:ext cx="1779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786720" y="42339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2433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21320" y="43876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3827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48520" y="38228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96000" y="2187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9720" y="21859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219400" y="2733840"/>
                <a:ext cx="8222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65560" y="2709720"/>
                <a:ext cx="8222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51000" y="3209760"/>
                <a:ext cx="95904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71800" y="3270240"/>
                <a:ext cx="1141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158920" y="3871800"/>
            <a:ext cx="7588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589200" y="3838680"/>
                <a:ext cx="4096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79680" y="3870360"/>
            <a:ext cx="7588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31384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0280" y="3154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44880" y="1731960"/>
            <a:ext cx="3287880" cy="2746440"/>
          </a:xfrm>
          <a:custGeom>
            <a:avLst/>
            <a:gdLst/>
            <a:ahLst/>
            <a:rect l="l" t="t" r="r" b="b"/>
            <a:pathLst>
              <a:path w="2071" h="1730">
                <a:moveTo>
                  <a:pt x="0" y="49"/>
                </a:moveTo>
                <a:cubicBezTo>
                  <a:pt x="17" y="121"/>
                  <a:pt x="34" y="194"/>
                  <a:pt x="85" y="343"/>
                </a:cubicBezTo>
                <a:cubicBezTo>
                  <a:pt x="136" y="492"/>
                  <a:pt x="228" y="769"/>
                  <a:pt x="306" y="943"/>
                </a:cubicBezTo>
                <a:cubicBezTo>
                  <a:pt x="384" y="1117"/>
                  <a:pt x="471" y="1269"/>
                  <a:pt x="551" y="1385"/>
                </a:cubicBezTo>
                <a:cubicBezTo>
                  <a:pt x="631" y="1501"/>
                  <a:pt x="702" y="1585"/>
                  <a:pt x="784" y="1642"/>
                </a:cubicBezTo>
                <a:cubicBezTo>
                  <a:pt x="866" y="1699"/>
                  <a:pt x="959" y="1730"/>
                  <a:pt x="1041" y="1728"/>
                </a:cubicBezTo>
                <a:cubicBezTo>
                  <a:pt x="1123" y="1726"/>
                  <a:pt x="1196" y="1691"/>
                  <a:pt x="1274" y="1630"/>
                </a:cubicBezTo>
                <a:cubicBezTo>
                  <a:pt x="1352" y="1569"/>
                  <a:pt x="1427" y="1475"/>
                  <a:pt x="1507" y="1360"/>
                </a:cubicBezTo>
                <a:cubicBezTo>
                  <a:pt x="1587" y="1245"/>
                  <a:pt x="1672" y="1114"/>
                  <a:pt x="1752" y="943"/>
                </a:cubicBezTo>
                <a:cubicBezTo>
                  <a:pt x="1832" y="772"/>
                  <a:pt x="1932" y="488"/>
                  <a:pt x="1985" y="331"/>
                </a:cubicBezTo>
                <a:cubicBezTo>
                  <a:pt x="2038" y="174"/>
                  <a:pt x="2057" y="55"/>
                  <a:pt x="207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5172120" y="2122560"/>
            <a:ext cx="2741040" cy="280440"/>
            <a:chOff x="5172120" y="2122560"/>
            <a:chExt cx="2741040" cy="280440"/>
          </a:xfrm>
        </p:grpSpPr>
        <p:sp>
          <p:nvSpPr>
            <p:cNvPr id="140" name=""/>
            <p:cNvSpPr/>
            <p:nvPr/>
          </p:nvSpPr>
          <p:spPr>
            <a:xfrm>
              <a:off x="7417440" y="2134080"/>
              <a:ext cx="49572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72120" y="2122560"/>
              <a:ext cx="49572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cking a Solution Using a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41240" y="2162160"/>
                <a:ext cx="3240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algebraically. Check the solutions graph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62040" y="3208320"/>
                <a:ext cx="685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224160" y="3289320"/>
                <a:ext cx="868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08200" y="3976560"/>
                <a:ext cx="9604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51320" y="3825720"/>
                <a:ext cx="8236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859280" y="1828440"/>
            <a:ext cx="3754440" cy="3429000"/>
            <a:chOff x="4859280" y="1828440"/>
            <a:chExt cx="3754440" cy="3429000"/>
          </a:xfrm>
        </p:grpSpPr>
        <p:grpSp>
          <p:nvGrpSpPr>
            <p:cNvPr id="151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152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V="1">
              <a:off x="650556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9280" y="22557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800360" y="4454640"/>
                <a:ext cx="23032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044800" y="5261040"/>
                <a:ext cx="2023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314440" y="2711520"/>
                <a:ext cx="8668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43240" y="2687760"/>
                <a:ext cx="8683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506880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37200" y="50943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0400" y="5454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56320" y="39956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88120" y="3975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4280" y="21844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77280" y="21826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29080" y="2136600"/>
            <a:ext cx="2335320" cy="3405240"/>
          </a:xfrm>
          <a:custGeom>
            <a:avLst/>
            <a:gdLst/>
            <a:ahLst/>
            <a:rect l="l" t="t" r="r" b="b"/>
            <a:pathLst>
              <a:path w="1471" h="1998">
                <a:moveTo>
                  <a:pt x="0" y="0"/>
                </a:moveTo>
                <a:cubicBezTo>
                  <a:pt x="88" y="386"/>
                  <a:pt x="176" y="773"/>
                  <a:pt x="258" y="1067"/>
                </a:cubicBezTo>
                <a:cubicBezTo>
                  <a:pt x="340" y="1361"/>
                  <a:pt x="407" y="1610"/>
                  <a:pt x="491" y="1765"/>
                </a:cubicBezTo>
                <a:cubicBezTo>
                  <a:pt x="575" y="1920"/>
                  <a:pt x="680" y="1998"/>
                  <a:pt x="760" y="1998"/>
                </a:cubicBezTo>
                <a:cubicBezTo>
                  <a:pt x="840" y="1998"/>
                  <a:pt x="891" y="1922"/>
                  <a:pt x="969" y="1765"/>
                </a:cubicBezTo>
                <a:cubicBezTo>
                  <a:pt x="1047" y="1608"/>
                  <a:pt x="1142" y="1346"/>
                  <a:pt x="1226" y="1054"/>
                </a:cubicBezTo>
                <a:cubicBezTo>
                  <a:pt x="1310" y="762"/>
                  <a:pt x="1430" y="187"/>
                  <a:pt x="1471" y="1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4629240" y="2103480"/>
            <a:ext cx="3227040" cy="280440"/>
            <a:chOff x="4629240" y="2103480"/>
            <a:chExt cx="3227040" cy="280440"/>
          </a:xfrm>
        </p:grpSpPr>
        <p:sp>
          <p:nvSpPr>
            <p:cNvPr id="182" name=""/>
            <p:cNvSpPr/>
            <p:nvPr/>
          </p:nvSpPr>
          <p:spPr>
            <a:xfrm>
              <a:off x="7272720" y="2115000"/>
              <a:ext cx="58356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9240" y="2103480"/>
              <a:ext cx="58356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65200" y="2124000"/>
                <a:ext cx="3514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28640" y="3247920"/>
                <a:ext cx="2559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24160" y="3289320"/>
                <a:ext cx="868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7218360" y="5234040"/>
            <a:ext cx="1673280" cy="1341360"/>
            <a:chOff x="7218360" y="5234040"/>
            <a:chExt cx="1673280" cy="1341360"/>
          </a:xfrm>
        </p:grpSpPr>
        <p:sp>
          <p:nvSpPr>
            <p:cNvPr id="191" name=""/>
            <p:cNvSpPr/>
            <p:nvPr/>
          </p:nvSpPr>
          <p:spPr>
            <a:xfrm>
              <a:off x="7218360" y="523404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7529400" y="535788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311960" y="5881680"/>
                <a:ext cx="9604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4859280" y="1828440"/>
            <a:ext cx="3754440" cy="3429000"/>
            <a:chOff x="4859280" y="1828440"/>
            <a:chExt cx="3754440" cy="3429000"/>
          </a:xfrm>
        </p:grpSpPr>
        <p:grpSp>
          <p:nvGrpSpPr>
            <p:cNvPr id="195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196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650556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9280" y="22557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27200" y="3832200"/>
                <a:ext cx="33224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508640" y="5446800"/>
                <a:ext cx="26841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100320" y="2712960"/>
                <a:ext cx="1049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03480" y="2709720"/>
                <a:ext cx="1050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70720" y="423216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23000" y="4237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08560" y="44226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23040" y="37036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73920" y="37036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0000" y="1503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13720" y="1503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07960" y="4387680"/>
                <a:ext cx="178452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19120" y="4462560"/>
                <a:ext cx="284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432080" y="5102280"/>
                <a:ext cx="588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163600" y="4510080"/>
                <a:ext cx="1179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898720" y="5165640"/>
                <a:ext cx="407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4400" y="5796000"/>
                <a:ext cx="44352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036800" y="5670720"/>
                <a:ext cx="69840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689200" y="5665680"/>
                <a:ext cx="6984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811840" y="5433840"/>
                <a:ext cx="1353960" cy="126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086440" y="276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78560" y="27622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67120" y="1536840"/>
            <a:ext cx="3033720" cy="2960640"/>
          </a:xfrm>
          <a:custGeom>
            <a:avLst/>
            <a:gdLst/>
            <a:ahLst/>
            <a:rect l="l" t="t" r="r" b="b"/>
            <a:pathLst>
              <a:path w="1911" h="1865">
                <a:moveTo>
                  <a:pt x="0" y="25"/>
                </a:moveTo>
                <a:cubicBezTo>
                  <a:pt x="83" y="301"/>
                  <a:pt x="167" y="578"/>
                  <a:pt x="245" y="809"/>
                </a:cubicBezTo>
                <a:cubicBezTo>
                  <a:pt x="323" y="1040"/>
                  <a:pt x="387" y="1253"/>
                  <a:pt x="465" y="1410"/>
                </a:cubicBezTo>
                <a:cubicBezTo>
                  <a:pt x="543" y="1567"/>
                  <a:pt x="626" y="1678"/>
                  <a:pt x="710" y="1753"/>
                </a:cubicBezTo>
                <a:cubicBezTo>
                  <a:pt x="794" y="1828"/>
                  <a:pt x="886" y="1865"/>
                  <a:pt x="968" y="1863"/>
                </a:cubicBezTo>
                <a:cubicBezTo>
                  <a:pt x="1050" y="1861"/>
                  <a:pt x="1121" y="1816"/>
                  <a:pt x="1201" y="1740"/>
                </a:cubicBezTo>
                <a:cubicBezTo>
                  <a:pt x="1281" y="1664"/>
                  <a:pt x="1362" y="1563"/>
                  <a:pt x="1446" y="1410"/>
                </a:cubicBezTo>
                <a:cubicBezTo>
                  <a:pt x="1530" y="1257"/>
                  <a:pt x="1625" y="1056"/>
                  <a:pt x="1703" y="821"/>
                </a:cubicBezTo>
                <a:cubicBezTo>
                  <a:pt x="1781" y="586"/>
                  <a:pt x="1876" y="137"/>
                  <a:pt x="191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282160" y="5883120"/>
                <a:ext cx="41256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65200" y="2124000"/>
                <a:ext cx="3514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175360" y="1752480"/>
            <a:ext cx="1673280" cy="1341360"/>
            <a:chOff x="5175360" y="1752480"/>
            <a:chExt cx="1673280" cy="1341360"/>
          </a:xfrm>
        </p:grpSpPr>
        <p:sp>
          <p:nvSpPr>
            <p:cNvPr id="242" name=""/>
            <p:cNvSpPr/>
            <p:nvPr/>
          </p:nvSpPr>
          <p:spPr>
            <a:xfrm>
              <a:off x="5175360" y="175248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5486400" y="187632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268960" y="2400480"/>
                <a:ext cx="9604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38800" y="2401920"/>
                <a:ext cx="412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03360" y="2813040"/>
                <a:ext cx="4017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16120" y="2965320"/>
                <a:ext cx="8222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44840" y="2962440"/>
                <a:ext cx="8222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60480" y="3657600"/>
                <a:ext cx="639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568520" y="3656160"/>
                <a:ext cx="8222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359080" y="3630600"/>
                <a:ext cx="1096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483000" y="3930480"/>
            <a:ext cx="11736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579840" y="3774600"/>
            <a:ext cx="23328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96960" y="4405320"/>
                <a:ext cx="4017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114560" y="453564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843280" y="4532400"/>
                <a:ext cx="411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168560" y="524988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662120" y="52261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452680" y="5222880"/>
                <a:ext cx="1096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576600" y="5522760"/>
            <a:ext cx="11736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673440" y="5366880"/>
            <a:ext cx="23328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6321600" y="4683240"/>
            <a:ext cx="685800" cy="231840"/>
            <a:chOff x="6321600" y="4683240"/>
            <a:chExt cx="685800" cy="231840"/>
          </a:xfrm>
        </p:grpSpPr>
        <p:sp>
          <p:nvSpPr>
            <p:cNvPr id="263" name=""/>
            <p:cNvSpPr/>
            <p:nvPr/>
          </p:nvSpPr>
          <p:spPr>
            <a:xfrm>
              <a:off x="6707160" y="4695840"/>
              <a:ext cx="300240" cy="21096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1600" y="4683240"/>
              <a:ext cx="331560" cy="23184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04640" y="2124000"/>
                <a:ext cx="383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6320" y="3247920"/>
                <a:ext cx="260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24160" y="3289320"/>
                <a:ext cx="868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1" name=""/>
          <p:cNvGrpSpPr/>
          <p:nvPr/>
        </p:nvGrpSpPr>
        <p:grpSpPr>
          <a:xfrm>
            <a:off x="7218360" y="5234040"/>
            <a:ext cx="1673280" cy="1341360"/>
            <a:chOff x="7218360" y="5234040"/>
            <a:chExt cx="1673280" cy="1341360"/>
          </a:xfrm>
        </p:grpSpPr>
        <p:sp>
          <p:nvSpPr>
            <p:cNvPr id="272" name=""/>
            <p:cNvSpPr/>
            <p:nvPr/>
          </p:nvSpPr>
          <p:spPr>
            <a:xfrm>
              <a:off x="7218360" y="523404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7529400" y="535788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553160" y="5881680"/>
                <a:ext cx="5954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4800600" y="1828440"/>
            <a:ext cx="3754440" cy="3429000"/>
            <a:chOff x="4800600" y="1828440"/>
            <a:chExt cx="3754440" cy="3429000"/>
          </a:xfrm>
        </p:grpSpPr>
        <p:grpSp>
          <p:nvGrpSpPr>
            <p:cNvPr id="276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277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 flipV="1">
              <a:off x="572760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00600" y="48243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04880" y="3832200"/>
                <a:ext cx="3367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54440" y="5397480"/>
                <a:ext cx="23497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408480" y="26719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17600" y="2687760"/>
                <a:ext cx="8226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58080" y="44276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91280" y="4413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16800" y="48117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10400" y="33544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64520" y="33354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07960" y="4387680"/>
                <a:ext cx="178452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97000" y="4441680"/>
                <a:ext cx="730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432080" y="5102280"/>
                <a:ext cx="588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325600" y="4510080"/>
                <a:ext cx="854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762280" y="5129280"/>
                <a:ext cx="407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-6480" y="5796000"/>
                <a:ext cx="4478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176480" y="5670720"/>
                <a:ext cx="41904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003480" y="5643720"/>
                <a:ext cx="41904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843520" y="5373720"/>
                <a:ext cx="8208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5415120" y="1638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26320" y="16351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8185320" y="5883120"/>
                <a:ext cx="41256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5486400" y="1711440"/>
            <a:ext cx="2314440" cy="3211560"/>
          </a:xfrm>
          <a:custGeom>
            <a:avLst/>
            <a:gdLst/>
            <a:ahLst/>
            <a:rect l="l" t="t" r="r" b="b"/>
            <a:pathLst>
              <a:path w="1458" h="2023">
                <a:moveTo>
                  <a:pt x="0" y="0"/>
                </a:moveTo>
                <a:cubicBezTo>
                  <a:pt x="81" y="398"/>
                  <a:pt x="163" y="797"/>
                  <a:pt x="245" y="1091"/>
                </a:cubicBezTo>
                <a:cubicBezTo>
                  <a:pt x="327" y="1385"/>
                  <a:pt x="404" y="1610"/>
                  <a:pt x="490" y="1765"/>
                </a:cubicBezTo>
                <a:cubicBezTo>
                  <a:pt x="576" y="1920"/>
                  <a:pt x="680" y="2023"/>
                  <a:pt x="760" y="2023"/>
                </a:cubicBezTo>
                <a:cubicBezTo>
                  <a:pt x="840" y="2023"/>
                  <a:pt x="888" y="1924"/>
                  <a:pt x="968" y="1765"/>
                </a:cubicBezTo>
                <a:cubicBezTo>
                  <a:pt x="1048" y="1606"/>
                  <a:pt x="1156" y="1361"/>
                  <a:pt x="1238" y="1067"/>
                </a:cubicBezTo>
                <a:cubicBezTo>
                  <a:pt x="1320" y="773"/>
                  <a:pt x="1421" y="178"/>
                  <a:pt x="145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04640" y="2124000"/>
                <a:ext cx="383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75360" y="1752480"/>
            <a:ext cx="1673280" cy="1341360"/>
            <a:chOff x="5175360" y="1752480"/>
            <a:chExt cx="1673280" cy="1341360"/>
          </a:xfrm>
        </p:grpSpPr>
        <p:sp>
          <p:nvSpPr>
            <p:cNvPr id="321" name=""/>
            <p:cNvSpPr/>
            <p:nvPr/>
          </p:nvSpPr>
          <p:spPr>
            <a:xfrm>
              <a:off x="5175360" y="175248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486400" y="187632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548320" y="2400480"/>
                <a:ext cx="5936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238800" y="2401920"/>
                <a:ext cx="412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42800" y="2813040"/>
                <a:ext cx="4338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880920" y="2946240"/>
                <a:ext cx="4572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805120" y="2962440"/>
                <a:ext cx="455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071720" y="3660840"/>
                <a:ext cx="4554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31800" y="3633840"/>
                <a:ext cx="1051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509920" y="3627360"/>
                <a:ext cx="1187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3678120" y="3949560"/>
            <a:ext cx="11772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774960" y="3793680"/>
            <a:ext cx="23364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38200" y="4405320"/>
                <a:ext cx="4336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958680" y="4535640"/>
                <a:ext cx="411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2959200" y="4532400"/>
                <a:ext cx="411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168560" y="524988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585800" y="5226120"/>
                <a:ext cx="1051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603520" y="5238720"/>
                <a:ext cx="1187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3772080" y="5560920"/>
            <a:ext cx="117360" cy="15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868560" y="5405400"/>
            <a:ext cx="23364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79600" y="2143080"/>
                <a:ext cx="3560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728640" y="3247920"/>
                <a:ext cx="2559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24160" y="3289320"/>
                <a:ext cx="868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7" name=""/>
          <p:cNvGrpSpPr/>
          <p:nvPr/>
        </p:nvGrpSpPr>
        <p:grpSpPr>
          <a:xfrm>
            <a:off x="7218360" y="5234040"/>
            <a:ext cx="1673280" cy="1341360"/>
            <a:chOff x="7218360" y="5234040"/>
            <a:chExt cx="1673280" cy="1341360"/>
          </a:xfrm>
        </p:grpSpPr>
        <p:sp>
          <p:nvSpPr>
            <p:cNvPr id="348" name=""/>
            <p:cNvSpPr/>
            <p:nvPr/>
          </p:nvSpPr>
          <p:spPr>
            <a:xfrm>
              <a:off x="7218360" y="523404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7529400" y="535788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7334280" y="5861160"/>
                <a:ext cx="8697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27200" y="3832200"/>
                <a:ext cx="33224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54440" y="5397480"/>
                <a:ext cx="23497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370320" y="26719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217600" y="2687760"/>
                <a:ext cx="8226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1284120" y="3287880"/>
            <a:ext cx="284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07960" y="4387680"/>
                <a:ext cx="178452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197000" y="4441680"/>
                <a:ext cx="730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432080" y="5102280"/>
                <a:ext cx="588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325600" y="4510080"/>
                <a:ext cx="854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762280" y="5129280"/>
                <a:ext cx="407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-6480" y="5796000"/>
                <a:ext cx="4478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176480" y="5670720"/>
                <a:ext cx="41904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003480" y="5643720"/>
                <a:ext cx="41904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576760" y="5373720"/>
                <a:ext cx="13543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8163000" y="5883120"/>
                <a:ext cx="458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6" name=""/>
          <p:cNvGrpSpPr/>
          <p:nvPr/>
        </p:nvGrpSpPr>
        <p:grpSpPr>
          <a:xfrm>
            <a:off x="5025960" y="2122560"/>
            <a:ext cx="3227040" cy="280440"/>
            <a:chOff x="5025960" y="2122560"/>
            <a:chExt cx="3227040" cy="280440"/>
          </a:xfrm>
        </p:grpSpPr>
        <p:sp>
          <p:nvSpPr>
            <p:cNvPr id="367" name=""/>
            <p:cNvSpPr/>
            <p:nvPr/>
          </p:nvSpPr>
          <p:spPr>
            <a:xfrm>
              <a:off x="7669440" y="2134080"/>
              <a:ext cx="58356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25960" y="2122560"/>
              <a:ext cx="583560" cy="268920"/>
            </a:xfrm>
            <a:prstGeom prst="ellipse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859280" y="1828440"/>
            <a:ext cx="3754440" cy="3429000"/>
            <a:chOff x="4859280" y="1828440"/>
            <a:chExt cx="3754440" cy="3429000"/>
          </a:xfrm>
        </p:grpSpPr>
        <p:grpSp>
          <p:nvGrpSpPr>
            <p:cNvPr id="370" name=""/>
            <p:cNvGrpSpPr/>
            <p:nvPr/>
          </p:nvGrpSpPr>
          <p:grpSpPr>
            <a:xfrm>
              <a:off x="4952880" y="1903320"/>
              <a:ext cx="3428640" cy="3276360"/>
              <a:chOff x="4952880" y="1903320"/>
              <a:chExt cx="3428640" cy="3276360"/>
            </a:xfrm>
          </p:grpSpPr>
          <p:sp>
            <p:nvSpPr>
              <p:cNvPr id="371" name=""/>
              <p:cNvSpPr/>
              <p:nvPr/>
            </p:nvSpPr>
            <p:spPr>
              <a:xfrm>
                <a:off x="5714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476760" y="19033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23852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00064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52880" y="19033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952880" y="1903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952880" y="22672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952880" y="26312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2880" y="29952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52880" y="33595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52880" y="37234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52880" y="40874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952880" y="44517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952880" y="48157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V="1">
              <a:off x="5716440" y="18284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59280" y="22557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967440" y="425124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19720" y="425592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05640" y="44416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19760" y="37227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0640" y="37227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76720" y="15224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10440" y="15224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83160" y="27846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75640" y="2781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64200" y="1555920"/>
            <a:ext cx="3033720" cy="2960640"/>
          </a:xfrm>
          <a:custGeom>
            <a:avLst/>
            <a:gdLst/>
            <a:ahLst/>
            <a:rect l="l" t="t" r="r" b="b"/>
            <a:pathLst>
              <a:path w="1911" h="1865">
                <a:moveTo>
                  <a:pt x="0" y="25"/>
                </a:moveTo>
                <a:cubicBezTo>
                  <a:pt x="83" y="301"/>
                  <a:pt x="167" y="578"/>
                  <a:pt x="245" y="809"/>
                </a:cubicBezTo>
                <a:cubicBezTo>
                  <a:pt x="323" y="1040"/>
                  <a:pt x="387" y="1253"/>
                  <a:pt x="465" y="1410"/>
                </a:cubicBezTo>
                <a:cubicBezTo>
                  <a:pt x="543" y="1567"/>
                  <a:pt x="626" y="1678"/>
                  <a:pt x="710" y="1753"/>
                </a:cubicBezTo>
                <a:cubicBezTo>
                  <a:pt x="794" y="1828"/>
                  <a:pt x="886" y="1865"/>
                  <a:pt x="968" y="1863"/>
                </a:cubicBezTo>
                <a:cubicBezTo>
                  <a:pt x="1050" y="1861"/>
                  <a:pt x="1121" y="1816"/>
                  <a:pt x="1201" y="1740"/>
                </a:cubicBezTo>
                <a:cubicBezTo>
                  <a:pt x="1281" y="1664"/>
                  <a:pt x="1362" y="1563"/>
                  <a:pt x="1446" y="1410"/>
                </a:cubicBezTo>
                <a:cubicBezTo>
                  <a:pt x="1530" y="1257"/>
                  <a:pt x="1625" y="1056"/>
                  <a:pt x="1703" y="821"/>
                </a:cubicBezTo>
                <a:cubicBezTo>
                  <a:pt x="1781" y="586"/>
                  <a:pt x="1876" y="137"/>
                  <a:pt x="1911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2880" y="2124000"/>
                <a:ext cx="3559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52360" y="1168560"/>
            <a:ext cx="88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graphically. Check the solutions algebraic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175360" y="1752480"/>
            <a:ext cx="1673280" cy="1341360"/>
            <a:chOff x="5175360" y="1752480"/>
            <a:chExt cx="1673280" cy="1341360"/>
          </a:xfrm>
        </p:grpSpPr>
        <p:sp>
          <p:nvSpPr>
            <p:cNvPr id="402" name=""/>
            <p:cNvSpPr/>
            <p:nvPr/>
          </p:nvSpPr>
          <p:spPr>
            <a:xfrm>
              <a:off x="5175360" y="1752480"/>
              <a:ext cx="1673280" cy="13413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876320"/>
                  <a:ext cx="960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315040" y="2400480"/>
                <a:ext cx="868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6216480" y="2401920"/>
                <a:ext cx="459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603360" y="2813040"/>
                <a:ext cx="4017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861840" y="2965320"/>
                <a:ext cx="730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805120" y="2941560"/>
                <a:ext cx="7300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158840" y="3641760"/>
                <a:ext cx="3189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568520" y="363384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473200" y="3627360"/>
                <a:ext cx="868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3483000" y="3930480"/>
            <a:ext cx="117360" cy="15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579840" y="3774600"/>
            <a:ext cx="233280" cy="311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696960" y="4405320"/>
                <a:ext cx="40179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092240" y="453564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054240" y="4513320"/>
                <a:ext cx="4572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46320" y="5288040"/>
                <a:ext cx="684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933560" y="5264280"/>
                <a:ext cx="1096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2975040" y="5238720"/>
                <a:ext cx="868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3984480" y="5560920"/>
            <a:ext cx="117720" cy="15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081320" y="5405400"/>
            <a:ext cx="233640" cy="31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.skelton</cp:lastModifiedBy>
  <dcterms:modified xsi:type="dcterms:W3CDTF">2006-01-20T14:51:19Z</dcterms:modified>
  <cp:revision>42</cp:revision>
  <dc:subject/>
  <dc:title>No Slide Title</dc:title>
</cp:coreProperties>
</file>